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654-929E-4B43-A61C-8CDAD298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060-E59E-4D9B-B832-CF7311F7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9DF-0F1A-4986-8090-5A565BFF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C1E-FE3B-4CC2-A9A2-B8444145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0E3A-18BC-490F-9A77-0097B0DD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A902-F389-443D-933F-2395B314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AE8-9BE4-478D-BC78-3EABF16B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55D-6603-41D5-B067-D1D778F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742-70DE-4350-B775-7952FE2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854-A770-42A7-A26D-CD8B70AC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EF3-5C30-41E3-88F9-E0BD2BC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7CB-94C2-49CC-8AA4-AE94EAB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4E92-7AFC-48C4-BEA2-94C3D17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A1D3-5B2B-490C-898C-263952C6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506E-A2F8-4F70-9594-077C49F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A50-8D6B-482C-8CE6-E7FCAE6B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209-A573-420C-AA6D-AFFBEF3E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2DAE-0D29-4CDB-9242-7BCAAE5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8638-59B3-4FAD-A0FF-1EFDD2ED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6343-7B0A-46DB-AB37-60784A4A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C124-DFBC-4E07-B321-24FCDEED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1000-DC7D-4095-AAF9-BBA8E4F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9D2-16D0-4C71-BDAA-584B2E3D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3F44-AFB9-47BE-9390-360BFB6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E1CE-CCED-4B85-B4B6-C072CAD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89A1-FCB3-4BE9-A67E-1594D9D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7DCB-8E54-4628-82A1-798341B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6B86-BE20-4D0A-AD69-393ECB9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68CA-EDDD-4773-BB9E-A48E60AD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9E87-2CA0-42C6-AB5C-F424AAD6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EDF-AD49-48A7-95E3-F81A6644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2B1-71AA-45BF-9E72-569FD20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27C-BBFC-4B8F-9BB4-E5F2383E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207-7DC5-4ECC-ABB1-0EF9BDD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497-EA04-4965-89F8-FD876ED1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9CB-8696-4791-A11A-6748E77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7ED-5D46-488D-A4B1-7AA72A19C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D094-69E9-45A6-B4A2-1F95289381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0CFC-87F2-49D4-863F-0F139FD694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5vmw9IRvQAwBmJzbkF;_ylu=X3oDMTBxOGhsbDljBHBvcwMxBHNlYwNzcgR2dGlkA0kwODVfMTA3/SIG=1fc2ajqv0/EXP=1209068783/**http%3A//images.search.yahoo.com/images/view%3Fback=http%253A%252F%252Fimages.search.yahoo.com%252Fsearch%252Fimages%253Fp%253Dbono%2526fr%253Dyfp-t-501-s%2526ei%253Dutf-8%2526js%253D1%2526x%253Dwrt%2526vm%253Dr%26w=1417%26h=1779%26imgurl=www.wadias.in%252Fsite%252Farzan%252Fblog%252Fbono.jpg%26rurl=http%253A%252F%252Fwadias.in%252Fsite%252Farzan%252Fblog%252Farchives%252Fbono-for-president%26size=391.1kB%26name=bono.jpg%26p=bono%26type=JPG%26oid=5d983fbb7f58a10a%26no=1&amp;tt=291866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nHmg9IunEAjeCJzbkF;_ylu=X3oDMTBxcTk4NDl0BHBvcwM0BHNlYwNzcgR2dGlkA0kwODVfMTA3/SIG=1dlrne65b/EXP=1209068615/**http%3A//images.search.yahoo.com/images/view%3Fback=http%253A%252F%252Fimages.search.yahoo.com%252Fsearch%252Fimages%253F_adv_prop%253Dimage%2526fr%253Dyfp-t-501-s%2526va%253Dabe%252Blincoln%2526sz%253D%26w=288%26h=392%26imgurl=www.coverups.com%252Fscans%252Flincoln.jpeg%26rurl=http%253A%252F%252Fwww.coverups.com%252Flincoln%26size=15.7kB%26name=lincoln.jpeg%26p=abe%20lincoln%26type=JPG%26oid=5b097294a4e1d644%26no=4&amp;tt=2959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iamw9IlFIAeIyJzbkF;_ylu=X3oDMTBxOGhsbDljBHBvcwMxBHNlYwNzcgR2dGlkA0kwODVfMTA3/SIG=1e5ug8bh4/EXP=1209068826/**http%3A//images.search.yahoo.com/images/view%3Fback=http%253A%252F%252Fimages.search.yahoo.com%252Fsearch%252Fimages%253Fp%253Dbill%252Bgates%2526fr%253Dyfp-t-501-s%2526ei%253Dutf-8%2526js%253D1%2526x%253Dwrt%2526vm%253Dr%26w=125%26h=146%26imgurl=mivadika.com%252Fimages%252Fmvdk%252FBill_Gates.jpg%26rurl=http%253A%252F%252Fmivadika.com%252F%26size=9.4kB%26name=Bill_Gates.jpg%26p=bill%20gates%26type=JPG%26oid=8d67d68b4a052102%26no=1&amp;tt=127854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Impact"/>
              </a:rPr>
              <a:t>It is true that everybody has the ability to do great good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y: Andrea Salton and Audrey R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MOD.jpg MARCH FO DIMES image by lnoel0"/>
          <p:cNvPicPr/>
          <p:nvPr/>
        </p:nvPicPr>
        <p:blipFill>
          <a:blip r:embed="rId1"/>
          <a:stretch/>
        </p:blipFill>
        <p:spPr>
          <a:xfrm>
            <a:off x="1523880" y="228600"/>
            <a:ext cx="571032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habitat01.jpg habitat for humanity image by chibetadelta"/>
          <p:cNvPicPr/>
          <p:nvPr/>
        </p:nvPicPr>
        <p:blipFill>
          <a:blip r:embed="rId1"/>
          <a:stretch/>
        </p:blipFill>
        <p:spPr>
          <a:xfrm>
            <a:off x="1695600" y="127152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066680"/>
            <a:ext cx="3789360" cy="477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209-501.gif Heart of the Crusade Pin image by bonniemillsavon"/>
          <p:cNvPicPr/>
          <p:nvPr/>
        </p:nvPicPr>
        <p:blipFill>
          <a:blip r:embed="rId1"/>
          <a:stretch/>
        </p:blipFill>
        <p:spPr>
          <a:xfrm>
            <a:off x="1828800" y="838080"/>
            <a:ext cx="518148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NY-ASPCA.jpg ASPCA!!! image by Anim3fr3ak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Picture547.jpg picture by whatever6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0" r="0" b="6638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firefighters.jpg Firefighters image by kovacshamilt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airplane.jpg airplane image by cswaring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0eed837d.jpg Railway image by holic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685800"/>
            <a:ext cx="3581280" cy="498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Picture544.jpg picture by whatever65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relay.jpg Relay for Life image by asmcgarry"/>
          <p:cNvPicPr/>
          <p:nvPr/>
        </p:nvPicPr>
        <p:blipFill>
          <a:blip r:embed="rId1"/>
          <a:stretch/>
        </p:blipFill>
        <p:spPr>
          <a:xfrm>
            <a:off x="2286000" y="914400"/>
            <a:ext cx="447660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TheRestrictedSection.jpg library image by thisroyal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Lighthouse.jpg Split Rock Lighthouse image by JasonARoth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st_augustine_lighthouse_7.jpg lighthouse image by froggr3420r8q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419M-10.jpg image by modern-art-paintin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Image Preview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mother_teresa.jpg Mother Teresa image by rlgeggis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teresa.jpg image by angelianholly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Go to fullsize image"/>
          <p:cNvPicPr/>
          <p:nvPr/>
        </p:nvPicPr>
        <p:blipFill>
          <a:blip r:embed="rId1"/>
          <a:stretch/>
        </p:blipFill>
        <p:spPr>
          <a:xfrm>
            <a:off x="2590920" y="1066680"/>
            <a:ext cx="3728880" cy="4481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066680"/>
            <a:ext cx="3770280" cy="4405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MilitaryPoliceInIraq.jpg Military police image by connor4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Livestrong.jpg lance armstrong image by survivorqu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Picture549.jpg picture by whatever6585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thpersonaggi_amelia_zoom.jpg Airheart image by weepingunderwillows"/>
          <p:cNvPicPr/>
          <p:nvPr/>
        </p:nvPicPr>
        <p:blipFill>
          <a:blip r:embed="rId1"/>
          <a:stretch/>
        </p:blipFill>
        <p:spPr>
          <a:xfrm>
            <a:off x="2666880" y="609480"/>
            <a:ext cx="3686400" cy="5634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29:41Z</dcterms:created>
  <dc:creator>Administrator</dc:creator>
  <dc:description/>
  <dc:language>en-US</dc:language>
  <cp:lastModifiedBy>Terry Reed</cp:lastModifiedBy>
  <dcterms:modified xsi:type="dcterms:W3CDTF">2008-04-23T23:45:43Z</dcterms:modified>
  <cp:revision>5</cp:revision>
  <dc:subject/>
  <dc:title>Visual Argument</dc:title>
</cp:coreProperties>
</file>